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8AF-0417-4939-9B63-F55C5277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EE2-28A1-45C8-B05A-CE59863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5FA-58DA-4D19-987B-173FCA5F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986-B9B1-4377-93D6-4267D5E5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F1A-AA02-493E-A41F-E9421BB3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960-EBEB-48B4-BD15-6E3F7DC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0EBE-FF00-497A-800B-4BE7D839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D9A0-3CDF-4EF4-8AA7-CF724E34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975-764F-44FE-81C1-13EAF91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4848-669F-40D3-8476-2CABC3D7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2B5-49AA-4BCA-AFFE-938576D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097-415D-4B81-AEE8-74659A0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DB7-0069-4D73-A9C6-A0C42A4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B49C-8226-4D60-8552-BC66F01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D59-171A-4F60-BC49-0BEC6A9B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5F94-2E34-4105-82B1-338F1B2B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90B-84DE-4CBA-A27D-C971C77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7F9-03F2-42D3-B745-30FE20C1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9F1-2164-4A46-81C6-CBDECF4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A72-C029-4FF5-8012-E914E5E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8E0-92B3-4221-B59C-CDB6880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CF9-459B-4C46-A5DD-784A2F3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CB5-D433-4781-88B5-C7312E6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45D-D427-4301-B353-37E6748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E41-4CDA-4B26-9B52-3766E138F7B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CF75-496E-4B19-8C86-354E70AEE72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ic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ra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Wizard of Oz (193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514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your opinion of musica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type of musical do you believe works the bes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potential benefits to musica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musicals a part of the film industry yet to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ends narrative and s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dramatic regi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s use integration – the level to which the music is woven into the plot of the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Musical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musicals gained in popularity from the 1930s-1950s, they slowly died out by the mid-196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s have made a comeback in the recent dec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ney – Beauty and the Beast (19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critical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ago – Best Picture Winner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integrated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 numbers not integrated into plot of the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, music is for fantasy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s under critic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s the question: “Why have the music if it is not necessar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Chicago (2002), The Jazz Singer (192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icago (20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2200" y="2000160"/>
            <a:ext cx="5619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Backstage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gs often rehear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s must occur from the narrative to the musical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continues to move the plot al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(1933), Moulin Rouge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ulin Rouge (20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grated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becomes part of the pl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hur Freed (MGM) most no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zard of Oz (19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in’ in the Rain (19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is necessary as major plot points occur and are resol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ingin’ in the Rain (1952), The Wizard of Oz (193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ngin’ in the Rain (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6:04:06Z</dcterms:created>
  <dc:creator>jvanengen</dc:creator>
  <dc:description/>
  <dc:language>en-US</dc:language>
  <cp:lastModifiedBy>jvanengen</cp:lastModifiedBy>
  <dcterms:modified xsi:type="dcterms:W3CDTF">2010-05-02T16:31:17Z</dcterms:modified>
  <cp:revision>3</cp:revision>
  <dc:subject/>
  <dc:title>Musicals</dc:title>
</cp:coreProperties>
</file>